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77E-DB0C-4805-97D9-E1460B71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627-6C47-419B-980C-0EAA6E0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38C-8E0A-4864-AFC3-C9D87180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D27-1F4E-4FFE-BF18-49C55B0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F7C-00D4-408D-BC64-B55F3837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D9C9-4F69-4037-84E0-3AF08284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4434-0FDE-44AC-9598-41024081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D2D-5A42-4E50-9AAE-680BCF4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D74-340E-4279-BF97-EA8567F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7021-25B6-44D2-B91D-C3F07DF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5880-968B-44BF-B181-DB7BE89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9CA-2320-4596-A291-BBA4E8C7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76A-67BE-456C-B346-BDF15FE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FCA-9480-4261-BBA0-70C1218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D4C1-6AB1-41C8-957B-B01B5C2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274B-848C-48AD-9CF0-0271BA5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E60F-86D9-4EDE-8922-03A9046C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2909-28DA-428D-A0CF-56044185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729E-5BB8-474B-AFA6-00AB681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3809-6F69-4C9D-892A-A2EE2B4B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7F63-5225-4105-99D6-C836986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4F2B-0CD3-45AE-AC0B-262EF33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708-89EB-4FA8-B976-1DADCC39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70FE-E4DD-477B-A73A-99FE9E8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A152-CE17-4D3B-90BD-DF31253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DFC8-6D1F-44F3-A697-8F76D91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C0D3-FE4C-48DC-B8C0-8E244CB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9CDC-E8B6-43D4-B2F5-F3FF6BCD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96CE-6599-4E15-8669-8420D160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8695-7946-41ED-9671-89C4705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1E40-A134-4F2C-9D30-448DDF1E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8511-55BA-4A5F-92A2-6F8DFD5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F705-1D7B-4EB5-9CEA-5DEC2A17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540-EB5D-475F-A8C0-06F1222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E728-A398-4658-9AB3-62462E81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A8EB-A929-44E3-9665-FF21C939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14FB-0E3D-4EA3-895F-63FD43F3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386B-72E2-4143-BE92-8CA1A48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B22A-2579-493B-AC70-7D3FE5F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BE5C-2CDF-4FDC-9F8F-05DECC6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0274-37FD-462F-AF68-1B06FBF7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04EC-4EF2-4C01-A437-E3E5EB9D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89A7-89FF-4D1F-A661-7D01D96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4EF6-CED5-46CC-8A4E-7963C6C9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CE6-3363-4CCA-A0B5-12D828EB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2AB5-D723-439D-99BA-2AB43A4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2AFA-2D5F-4ABA-9B59-BC7DF94B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E257-00C3-49BF-AD79-D7C681C3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336A-0C49-466B-81F9-7B9CE4E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18E5-FDC1-41BE-98C6-0D6D7B99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97FA-D87C-4A98-881E-CEF5D65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E315-1B0B-43A1-BB58-E8926E9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05C3-5BAD-4F60-9E06-368C456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7EC0-9C69-4D3B-B2F4-BBC9C23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AE6D-B582-4230-BD26-DCFB215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A05-18EF-4B81-B1BC-45B21C6D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BDC6-6F5E-4893-AE34-573BB351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09F-E284-4FF0-8BFC-5FC04E49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4C5-5EF2-4750-9AB9-2786E7E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00B-CE8E-403B-A924-F4F34D9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E9C-91A6-4588-9ABA-33B1BA6E4F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2133-87F0-4AEE-9A83-367A0514DF6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A383-396D-4C3B-A0A7-A1761464E0B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1F3-0FB4-4A50-ABB0-35C453B7BB0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C31-77DD-4962-B7CD-F32BA9D35B2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1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3276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3100"/>
            </a:br>
            <a:br>
              <a:rPr sz="3100"/>
            </a:br>
            <a:br>
              <a:rPr sz="3100"/>
            </a:br>
            <a:r>
              <a:rPr b="1" lang="sr-CS" sz="31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3100"/>
            </a:br>
            <a:br>
              <a:rPr sz="3100"/>
            </a:br>
            <a:r>
              <a:rPr b="1" lang="sr-Latn-CS" sz="31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3100"/>
            </a:b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038480" y="1676520"/>
            <a:ext cx="4114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3:04Z</dcterms:modified>
  <cp:revision>100</cp:revision>
  <dc:subject/>
  <dc:title>2-Humani genom</dc:title>
</cp:coreProperties>
</file>