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E7F-881F-48EA-A12A-4DF768CC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75D-6263-42F6-89E0-E85D229B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7BB-24BF-4176-848C-50DDE538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BA2-88B4-4732-8360-347B7827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C9BC-43A3-4C9A-BF1A-CD880002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B65B-AE1E-4586-9ECB-C94757D8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4586-16C8-417D-BF05-D232FEFB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6AE2-7EE1-4BE1-BB57-643AA254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E3C6-AA70-467E-A9F0-463AF29D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3B40-AD5B-4F94-904C-58AAD5CA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6A01-701E-4703-92D6-0B7EF31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D9F-A806-432A-8C3E-1C98B070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6C38-7B66-4AFE-AE99-06E35B13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CE69-A1B4-4B5C-818F-89A09640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3828-0306-4814-8DCB-327FA8A7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621C-044E-4796-BD62-A279EC4A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8D23-C0CA-4709-9742-C2194092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D86C-9F0F-42CE-9091-523FB805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530E-186C-4AFC-8095-664DB82A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AAAD-C244-4C81-942F-40671770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A38F-369A-4059-94A2-2AB1D4BC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9514-51C1-4150-B840-DBC22810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C91-3519-439B-8AC8-6868C07D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4911-BD48-40AC-8956-8A9A5ED0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A9249-01B1-4200-9180-E6D6B098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C88E-B5A1-436D-8C0F-9A921DC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7B78-84CB-4599-98F8-D0EDE898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749F-9AC3-4E62-B96C-31357119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E8F5-3549-47ED-88B0-26F1945A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B22F4-A078-4BA9-8763-EB11578F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B87EE-34BF-496B-848F-ACACD00E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2F0E-D9A7-4A9E-BE14-B5287860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36062-15D8-4F15-8733-FB23CDC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96F-32DE-4DA5-BFBB-E52F1A92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49D9-2367-4BA9-AF78-87D2ECEF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3FD45-A186-4994-9566-E5BCB584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D865-FE08-4DA5-88E7-8AAA77D8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F255-5B78-4764-A7DC-A9CAD3D3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C53E1-208B-4EB1-8141-61F28FFD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A5BE-A0D5-4C9B-B0BD-B2E41E45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DE673-6901-4EA9-B6A9-6392D6F2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85AA5-A22E-41E6-B349-6EA84D99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3000-B3E5-42E7-AC3B-10A9073D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A5B-8389-47BA-B596-354DC960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7A1-1921-47EF-AF5E-DE41FC40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738-5D24-48DC-9E76-3F7AA6A6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B00-E899-4EF5-B4D0-B9B64C7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0BC-A2AE-403D-964B-6544342C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FDF0-EED9-4BEE-9D59-DD865BCA70B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4860-27A2-4661-82B7-F710BC6C19C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D0FA-2069-4804-B7E0-92DDA761D3F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820D-E520-4EFC-9E73-86B15A8486C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r-CS" sz="4800" spc="-1" strike="noStrike">
                <a:solidFill>
                  <a:srgbClr val="ffff00"/>
                </a:solidFill>
                <a:latin typeface="Arial"/>
                <a:ea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G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0000cc"/>
                </a:solidFill>
                <a:latin typeface="Arial"/>
                <a:ea typeface="Arial"/>
              </a:rPr>
              <a:t>K</a:t>
            </a:r>
            <a:r>
              <a:rPr b="0" lang="sr-CS" sz="5000" spc="-1" strike="noStrike">
                <a:solidFill>
                  <a:srgbClr val="0000cc"/>
                </a:solidFill>
                <a:latin typeface="Arial"/>
                <a:ea typeface="Arial"/>
              </a:rPr>
              <a:t>од, кодон, антикод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Ko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Кодон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Антикод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т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cc"/>
                </a:solidFill>
                <a:latin typeface="Arial"/>
                <a:ea typeface="Arial"/>
              </a:rPr>
              <a:t>Основне карактеристике кода/кодон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Универзал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ступа само мт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кодир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к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едећ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G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који су означени као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бесмислени (нонсенс), стоп код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ницијални 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старт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он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Дегенеративност код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/код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једну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ира већи број кодона, осим триптофана и метионина које од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је само по један код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Одсуство преклапањ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и елементи једног кодона нису у исто време елементи другог код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13translation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://highered.mcgraw-hill.com/sites/0072437316/student_view0/chapter14/animations.html#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Danijela Todorovic</cp:lastModifiedBy>
  <dcterms:modified xsi:type="dcterms:W3CDTF">2018-09-03T11:48:56Z</dcterms:modified>
  <cp:revision>100</cp:revision>
  <dc:subject/>
  <dc:title>2-Humani genom</dc:title>
</cp:coreProperties>
</file>